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0F26-8B0E-425F-B42F-64F0D197E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A8F0-83E4-43A2-A7DB-BFF34010F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F6F4-7489-4232-BB77-2B25FA88A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3C24-4F89-4443-8202-251B802E6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397E-CC0B-4BE6-9723-493B9F2A5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0862-1162-44DA-8800-A3A9EAAAB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AECC-6769-4A3C-8789-02BF56AD4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F8B9-7673-4DA4-B129-6FB20251D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A578-95B7-4EC1-87A1-615D4C48E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E258-5C97-4AE3-AA67-8628ED35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64EA-D765-4924-B18D-7A1E1893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B7C3-2CE3-40DA-B738-C5272AD9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D9801-3353-4AEF-A0A6-B0A98C866B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ртреты М.Ю.Лермонт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4738680" cy="52117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4"/>
          <p:cNvSpPr/>
          <p:nvPr/>
        </p:nvSpPr>
        <p:spPr>
          <a:xfrm>
            <a:off x="5867280" y="1523880"/>
            <a:ext cx="228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. Ю. Лермонтов в сюртуке Тенгинского пехотного полка. Акварель К.А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рбунова. (184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дний прижизненный портрет Лермонт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РТР́́ЕТЫ Лермонт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838080" y="636480"/>
            <a:ext cx="75438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нашего времени дошло 15 прижизненных изображений Л. Это немало, если принять во внимание трагич. судьбу поэта — две ссылки на Кавказ, участие в боевых походах и его раннюю гибель. Ни один портрет Л., взятый отдельно, не дает исчерпывающего представления о внешнем облике, о глубине и многогранности внутр. мира гениального поэта. Но в совокупности созданные проф. художниками высокой квалифик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Ф. О. Будкин, П. Е. Заболотский, А. И. Клюндер, К. А. Горбун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авторы осн. прижизненной иконографии Л. — все впоследствии стали академиками живописи) эти портреты все же дают конкретное представление о наружности 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5562720" cy="58975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6248520" y="914400"/>
            <a:ext cx="2438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рмонтову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-8 л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1820-1822 го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т портрет Лермонтова, выполненны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известным художник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Некоторые исследователи подлинность портрета ставят под сомн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4718160" cy="52880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943600" y="1905120"/>
            <a:ext cx="2971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вописного или графического изображения Лермонтова М.Ю. в период его обучения в Москве нет. Большая часть портретов относится уже к последующему, петербургскому периоду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удожник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удкин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ен по заказу Е.А. Арсеньев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5070240" cy="61722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6095880" y="1143000"/>
            <a:ext cx="228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рмонтов в ментике лейб-гвардии Гусарского полка (1837 го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смотря на то, чт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болот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е был профессиональным художником, портрет получился великолеп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5867280" cy="54453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4"/>
          <p:cNvSpPr/>
          <p:nvPr/>
        </p:nvSpPr>
        <p:spPr>
          <a:xfrm>
            <a:off x="6629400" y="1523880"/>
            <a:ext cx="198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портрет Лермонтова (1837 го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ен самим поэтом на Кавказе. Портрет является одним из самых ценных для исследователей-лермонтове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4698720" cy="49831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4"/>
          <p:cNvSpPr/>
          <p:nvPr/>
        </p:nvSpPr>
        <p:spPr>
          <a:xfrm>
            <a:off x="5715000" y="2133720"/>
            <a:ext cx="274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трет Лермонтова работ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И. Клюнде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1838 го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самый первый портрет Клюндера (бумага, акварель), хранится в Институте русской литера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457200" y="536400"/>
            <a:ext cx="5257800" cy="52056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4"/>
          <p:cNvSpPr/>
          <p:nvPr/>
        </p:nvSpPr>
        <p:spPr>
          <a:xfrm>
            <a:off x="6248520" y="2057400"/>
            <a:ext cx="2361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трет Лермонтова работ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.Е. Заболотског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184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алистично выполненный портрет. Картон, масло. Картина хранится в Институте русской литера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457200" y="880920"/>
            <a:ext cx="5562720" cy="52452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/>
          <p:cNvSpPr/>
          <p:nvPr/>
        </p:nvSpPr>
        <p:spPr>
          <a:xfrm>
            <a:off x="6172200" y="1447920"/>
            <a:ext cx="25146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трет Лермонтова работ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нополчанина Д.П. Пале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184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динственный профильный портрет поэта. Исключительная ценность этой работы в том, что однополчанин возможно наиболее точно передал внешность Лермонт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акаров</dc:creator>
  <dc:description/>
  <dc:language>en-US</dc:language>
  <cp:lastModifiedBy>Макаров</cp:lastModifiedBy>
  <dcterms:modified xsi:type="dcterms:W3CDTF">2012-12-03T05:08:05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